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C56-419D-4C2C-8A75-B7E3AC96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128-DD20-4493-982B-27FEA52E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E3B-7070-4F63-B8D7-516755C2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24D-F31F-40E6-9B29-08797E28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7BB-2128-46AE-A065-AABA74A4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EAD-2703-46D8-9499-B90A3A9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B5B-EBCB-41FC-8403-18E457D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DBF-10BC-4F07-83E5-73F79576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002-3F94-478F-A554-C49F84DC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A2A-A38F-4760-B2F1-F530A0F3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E70-7E3D-4771-B24A-BDE6811B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DB8-941E-4DB6-826F-3D9EBF5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2CB6-96B8-476D-9014-5D81408C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ution – controversial statement being deb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rmative- speaker (s) in support of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– speakers (s) against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den of proof – the duty of proving the resolution true (always belongs to aff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5204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or – runs the debate, keep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quo – current state of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ve – speech in which speakers build their case in favor of or against th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uttal – speech in which speakers refute and rebuild thei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examination – questioning of the opposing s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quent speaker – member of the audience who volunteers to speak in favor of or against the re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coln- Doug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6 minute constructive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3 minute cross-exa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7 minute constructive speech (including refut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3 minute cross-exa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4 minute rebuttal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6 minute rebuttal and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3 minute rebuttal and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S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6 minute construc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6 minute construc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3 minute subsequent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3 minute subsequent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sequent speeches as time and interest al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gative – 3 minute rebuttal and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firmative – 3 minute rebuttal and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o do if you have time lef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 you shouldn’t have too much time lef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 time to the chair. (Sit down and b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 time to questions. (Answer questions from the audienc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ator’s responsibili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oint a timekeeper and make sure they know th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he re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the deb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order. Remind people of rules of deco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on questions and subsequent spea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the vote at the end of the deb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 out and count best speaker ball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36:03Z</dcterms:created>
  <dc:creator>username</dc:creator>
  <dc:description/>
  <dc:language>en-US</dc:language>
  <cp:lastModifiedBy>username</cp:lastModifiedBy>
  <dcterms:modified xsi:type="dcterms:W3CDTF">2009-06-16T14:23:38Z</dcterms:modified>
  <cp:revision>2</cp:revision>
  <dc:subject/>
  <dc:title>Debate</dc:title>
</cp:coreProperties>
</file>